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E7B-C0DA-4FB0-BFA0-482C7EB95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15B-04F5-4520-9947-E92A9F3B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184-8B0D-46AF-81D8-6AA9CC8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19A-C6E9-471A-A3FE-97128138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4C2C-5217-4855-B4FC-56436556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E2D1-6685-43DE-B716-B6BFA340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23C9-0887-4F6D-8BDB-A4FE6D74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1B23-8400-484D-9523-A6A81F27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082C-6318-4E7D-BC82-DBDCEA47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01BA-9D2D-4594-B622-E19CBE8D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100D-6A84-42BA-A299-2B80A893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DDB-8373-4E59-899C-EB1EB525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F6B0-F9A0-467D-B271-E4A69F9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04DA-BBC8-4FF7-A7D5-E8DEEE85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6B2D-433C-4833-878A-BE208D1C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A58B-379B-4B5E-91C3-AD8CCEB1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8942-2144-4635-BFE0-6ABD04A5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9C85-E08A-4D55-B26B-EC6E79C0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1CF62-532D-4081-86FE-C5F0B21A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F129-E787-4B4B-BC3B-C00A3C4C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C8A9-1C6A-4946-BEA9-85A0A33E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CE108-7E86-4071-8561-A672A34B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5CA-3253-4AF3-8B67-9D9E2B42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6332-8EE2-48DC-8A9B-A1C8DADC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EF8C-43B2-4F3D-9A95-2B2EC6F4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B2018-3E46-4D87-93E2-FA6FBF94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14B9-D6F6-4EC2-A306-051336D0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EFD91-ADFE-480E-8000-9C105A39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3924-C097-4E7A-8C20-016F1123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B7DC-1B13-4269-97C6-0B16116D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349B1-6E34-4990-809D-30D7FC0F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CED23-FB22-4D17-87C9-12DDE4C0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2085-E252-4B0D-9AE4-1F38C620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8A4-B082-4EB2-BF4F-F3E93534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789C-0CBF-483A-8990-D86D0BD7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E106-331D-4AA8-A269-4E125899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270CD-B2EB-4691-8176-F3FAC5E1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7A9BF-8194-4295-B8C6-32F201AE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5AA00-3A18-4712-ABB8-A0C8D28B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E9961-A1E6-4F5D-A293-3F73B182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41009-0A75-4A4D-992F-BC04C01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AFEE4-F184-436C-A759-F8004886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CC6B-0B2A-4B0C-851C-D84235DA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18954-F175-479F-A1A1-034F2573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3A5-1C0E-4E7D-90BC-CFA687E8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3A74-FDAE-4FAC-AE33-87D01E59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1F1DA-C00D-4398-8C6F-1DDF46A7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2627D-1E31-46B5-A2E5-2CA3D638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8974D-E781-403C-A3D9-6F25AE13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C5CE8-26CC-4465-A443-FC368336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68F60-F5F3-47DE-8070-7AFDF18E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6596-BE37-4947-A852-A1E62A46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47AD3-B8C9-41D9-B1A4-E622143A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E30A1-EF45-4FB6-9D8A-3E0CB3F9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EA574-F54A-4887-918A-DD2C417E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4C23-2058-40D0-9217-31B2EADF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25EAE-DA2F-4EA9-B73B-ABE6D8C7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579E3-CDC4-489D-B50A-29564222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258DD-7019-4933-98C5-E2D20657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A68CD-4073-49DC-A8BC-720716E1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F41B-6B07-4A36-A6FE-88DC90B0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9EB53-1E44-452E-9546-8C7593E8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E1FE2-5F7E-4EA4-801A-E0F6A55A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01020-74B0-4746-A47E-10B22E56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DE6E-503B-4B5F-9B76-F4F67C4C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6168E-84F4-4412-A413-988D2670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AA2-AE5E-4D08-A43D-B832D03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ED03D-3D22-4AB6-AC48-1264133B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F1152-3A38-4392-9620-1B3A7E922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17FA8-8504-4BC1-A24D-C7028672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AC6-13D1-4475-8854-627EF123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1B8-698D-4328-9AD3-FC6BB48E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7F52-5AF0-4910-9469-92877C6EAA40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5FB4-02BE-4DAB-A63F-F14D8D902475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8E53-6D21-43F8-994F-016D1C95B262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BA0A-60AD-4CC6-9B09-AD7CE0ABC5C2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11F9-D3FA-4443-8620-41288706DF2A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94D-45E4-4A4E-B355-309650B4AAE7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179280" y="119700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«Способность физики обнаруживать единство в необычном и загадочном мире, окружающем нас, не может нас не вдохновля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2"/>
          <p:cNvSpPr/>
          <p:nvPr/>
        </p:nvSpPr>
        <p:spPr>
          <a:xfrm>
            <a:off x="5213160" y="4149720"/>
            <a:ext cx="29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 Деви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928800" y="186840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сила, выталкивающая целиком погруженное в жидкость тело, равна весу жидкости в объеме этого те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YouCut_20230225_232000553.mp4" descr=""/>
          <p:cNvPicPr/>
          <p:nvPr/>
        </p:nvPicPr>
        <p:blipFill>
          <a:blip r:embed="rId1"/>
          <a:stretch/>
        </p:blipFill>
        <p:spPr>
          <a:xfrm>
            <a:off x="500040" y="177840"/>
            <a:ext cx="84297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pa_806"/>
          <p:cNvPicPr/>
          <p:nvPr/>
        </p:nvPicPr>
        <p:blipFill>
          <a:blip r:embed="rId1"/>
          <a:stretch/>
        </p:blipFill>
        <p:spPr>
          <a:xfrm>
            <a:off x="0" y="0"/>
            <a:ext cx="3357720" cy="38577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6"/>
          <p:cNvSpPr/>
          <p:nvPr/>
        </p:nvSpPr>
        <p:spPr>
          <a:xfrm>
            <a:off x="3635280" y="1052640"/>
            <a:ext cx="53690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рхимедова сила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274680" y="3924360"/>
            <a:ext cx="280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им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87-212 до н.э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692360" y="1514520"/>
            <a:ext cx="3095640" cy="2281320"/>
          </a:xfrm>
          <a:prstGeom prst="rect">
            <a:avLst/>
          </a:prstGeom>
          <a:solidFill>
            <a:srgbClr val="f6c78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ая соединительная линия 3"/>
          <p:cNvSpPr/>
          <p:nvPr/>
        </p:nvSpPr>
        <p:spPr>
          <a:xfrm>
            <a:off x="1692360" y="1123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>
            <a:off x="4788000" y="112536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2843280" y="2708280"/>
            <a:ext cx="1081080" cy="865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трелка вправо 6"/>
          <p:cNvSpPr/>
          <p:nvPr/>
        </p:nvSpPr>
        <p:spPr>
          <a:xfrm rot="5400000">
            <a:off x="5803200" y="2180520"/>
            <a:ext cx="3093840" cy="10094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трелка вниз 7"/>
          <p:cNvSpPr/>
          <p:nvPr/>
        </p:nvSpPr>
        <p:spPr>
          <a:xfrm rot="10800000">
            <a:off x="5407200" y="1736640"/>
            <a:ext cx="1008000" cy="19432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7c4b3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5653080" y="2932200"/>
            <a:ext cx="1123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7093080" y="1628640"/>
            <a:ext cx="1008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5"/>
          <p:cNvSpPr/>
          <p:nvPr/>
        </p:nvSpPr>
        <p:spPr>
          <a:xfrm>
            <a:off x="468360" y="47671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2. Найти равнодействующую сил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R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, равную весу тела в жидк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Рисунок 18" descr=""/>
          <p:cNvPicPr/>
          <p:nvPr/>
        </p:nvPicPr>
        <p:blipFill>
          <a:blip r:embed="rId1"/>
          <a:stretch/>
        </p:blipFill>
        <p:spPr>
          <a:xfrm>
            <a:off x="1671480" y="5126040"/>
            <a:ext cx="5561280" cy="216360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2"/>
          <p:cNvSpPr/>
          <p:nvPr/>
        </p:nvSpPr>
        <p:spPr>
          <a:xfrm>
            <a:off x="349560" y="4183200"/>
            <a:ext cx="79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1.  Расставить силы, действующие на тело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1671480" y="189000"/>
            <a:ext cx="556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ери формул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4591440" y="2781360"/>
            <a:ext cx="4051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Р=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gm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5096160" y="4105440"/>
            <a:ext cx="304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m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 ρ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6" descr="pa_806"/>
          <p:cNvPicPr/>
          <p:nvPr/>
        </p:nvPicPr>
        <p:blipFill>
          <a:blip r:embed="rId1"/>
          <a:stretch/>
        </p:blipFill>
        <p:spPr>
          <a:xfrm>
            <a:off x="0" y="0"/>
            <a:ext cx="3357720" cy="38577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4824720" y="5373720"/>
            <a:ext cx="35856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g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 ρ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3400560" y="-227160"/>
            <a:ext cx="53686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рхимедова сила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7" descr=""/>
          <p:cNvPicPr/>
          <p:nvPr/>
        </p:nvPicPr>
        <p:blipFill>
          <a:blip r:embed="rId2"/>
          <a:stretch/>
        </p:blipFill>
        <p:spPr>
          <a:xfrm>
            <a:off x="3583080" y="1225440"/>
            <a:ext cx="5560920" cy="21639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3"/>
          <p:cNvSpPr/>
          <p:nvPr/>
        </p:nvSpPr>
        <p:spPr>
          <a:xfrm>
            <a:off x="274680" y="3924360"/>
            <a:ext cx="280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им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87-212 до н.э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728640" y="133200"/>
          <a:ext cx="7834320" cy="3108600"/>
        </p:xfrm>
        <a:graphic>
          <a:graphicData uri="http://schemas.openxmlformats.org/drawingml/2006/table">
            <a:tbl>
              <a:tblPr/>
              <a:tblGrid>
                <a:gridCol w="3917880"/>
                <a:gridCol w="3916440"/>
              </a:tblGrid>
              <a:tr h="97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Архиме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ис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Архиме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завис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853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8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367" name="TextBox 3"/>
          <p:cNvSpPr/>
          <p:nvPr/>
        </p:nvSpPr>
        <p:spPr>
          <a:xfrm>
            <a:off x="12556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а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4937040" y="1341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и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1403280" y="2046240"/>
            <a:ext cx="324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и жидк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1644480" y="3241800"/>
            <a:ext cx="600084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66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=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P</a:t>
            </a:r>
            <a:r>
              <a:rPr b="0" lang="ru-RU" sz="66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=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gm</a:t>
            </a:r>
            <a:r>
              <a:rPr b="0" lang="ru-RU" sz="66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4"/>
          <p:cNvSpPr/>
          <p:nvPr/>
        </p:nvSpPr>
        <p:spPr>
          <a:xfrm>
            <a:off x="2648520" y="4200480"/>
            <a:ext cx="37148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m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= ρ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Прямоугольник 8"/>
          <p:cNvSpPr/>
          <p:nvPr/>
        </p:nvSpPr>
        <p:spPr>
          <a:xfrm>
            <a:off x="2520000" y="5389560"/>
            <a:ext cx="4249800" cy="14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g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ρ</a:t>
            </a:r>
            <a:r>
              <a:rPr b="0" lang="ru-RU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r>
              <a:rPr b="0" lang="ru-RU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4862520" y="160200"/>
            <a:ext cx="40384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 имеет удивительные свойства, она дает жизнь, освежает, делает тяжелое легким. Эта ее особенность не может не поразить ребенка, который наверняка захочет узнать, почему все предметы в воде становятся легки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Почему в воде легче поднимать предметы. Рассказ для детей"/>
          <p:cNvPicPr/>
          <p:nvPr/>
        </p:nvPicPr>
        <p:blipFill>
          <a:blip r:embed="rId1"/>
          <a:stretch/>
        </p:blipFill>
        <p:spPr>
          <a:xfrm>
            <a:off x="33480" y="404640"/>
            <a:ext cx="3846240" cy="245592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Рисунок 5" descr=""/>
          <p:cNvPicPr/>
          <p:nvPr/>
        </p:nvPicPr>
        <p:blipFill>
          <a:blip r:embed="rId2"/>
          <a:stretch/>
        </p:blipFill>
        <p:spPr>
          <a:xfrm>
            <a:off x="0" y="3500280"/>
            <a:ext cx="3911760" cy="26035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"/>
          <p:cNvPicPr/>
          <p:nvPr/>
        </p:nvPicPr>
        <p:blipFill>
          <a:blip r:embed="rId3"/>
          <a:srcRect l="-855" t="15118" r="860" b="28185"/>
          <a:stretch/>
        </p:blipFill>
        <p:spPr>
          <a:xfrm>
            <a:off x="4619520" y="4299120"/>
            <a:ext cx="4524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2"/>
          <p:cNvSpPr/>
          <p:nvPr/>
        </p:nvSpPr>
        <p:spPr>
          <a:xfrm>
            <a:off x="3634200" y="488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Прямоугольник 3"/>
          <p:cNvSpPr/>
          <p:nvPr/>
        </p:nvSpPr>
        <p:spPr>
          <a:xfrm>
            <a:off x="285840" y="2108160"/>
            <a:ext cx="86439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 выталкивающую силу, действующую на тело объёмом 15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, полностью погруженное в рту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826920" y="1185840"/>
            <a:ext cx="3024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-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5364000" y="1185840"/>
            <a:ext cx="31816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-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"/>
          <p:cNvSpPr/>
          <p:nvPr/>
        </p:nvSpPr>
        <p:spPr>
          <a:xfrm>
            <a:off x="1979640" y="26028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отве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2627280" y="189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468360" y="1255680"/>
            <a:ext cx="8567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какими трудностями вы столкнулись как учены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полезного вы извлекли из данного занят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для тебя явилось полезной информаци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для тебя явилось полезным навык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"/>
          <p:cNvSpPr/>
          <p:nvPr/>
        </p:nvSpPr>
        <p:spPr>
          <a:xfrm>
            <a:off x="4284720" y="1103400"/>
            <a:ext cx="45720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 имеет удивительные свойства, она дает жизнь, освежает, делает тяжелое легким. Эта ее особенность не может не поразить ребенка, который наверняка захочет узнать, почему все предметы в воде становятся легки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2" descr="Почему в воде легче поднимать предметы. Рассказ для детей"/>
          <p:cNvPicPr/>
          <p:nvPr/>
        </p:nvPicPr>
        <p:blipFill>
          <a:blip r:embed="rId1"/>
          <a:stretch/>
        </p:blipFill>
        <p:spPr>
          <a:xfrm>
            <a:off x="324000" y="1700280"/>
            <a:ext cx="3624120" cy="23144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3"/>
          <p:cNvSpPr/>
          <p:nvPr/>
        </p:nvSpPr>
        <p:spPr>
          <a:xfrm>
            <a:off x="2523240" y="1890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Рисунок 5" descr=""/>
          <p:cNvPicPr/>
          <p:nvPr/>
        </p:nvPicPr>
        <p:blipFill>
          <a:blip r:embed="rId2"/>
          <a:stretch/>
        </p:blipFill>
        <p:spPr>
          <a:xfrm>
            <a:off x="395280" y="4573440"/>
            <a:ext cx="3384720" cy="22528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" descr=""/>
          <p:cNvPicPr/>
          <p:nvPr/>
        </p:nvPicPr>
        <p:blipFill>
          <a:blip r:embed="rId3"/>
          <a:srcRect l="-855" t="15118" r="860" b="28185"/>
          <a:stretch/>
        </p:blipFill>
        <p:spPr>
          <a:xfrm>
            <a:off x="5003640" y="4641840"/>
            <a:ext cx="3853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1"/>
          <a:srcRect l="6223" t="0" r="5959" b="0"/>
          <a:stretch/>
        </p:blipFill>
        <p:spPr>
          <a:xfrm>
            <a:off x="1946160" y="782640"/>
            <a:ext cx="4848480" cy="4135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"/>
          <p:cNvSpPr/>
          <p:nvPr/>
        </p:nvSpPr>
        <p:spPr>
          <a:xfrm>
            <a:off x="297000" y="497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те работу в группе до 5 б или от 5-10 б по критер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2"/>
          <p:cNvSpPr/>
          <p:nvPr/>
        </p:nvSpPr>
        <p:spPr>
          <a:xfrm>
            <a:off x="900000" y="1260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есо само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108000" y="5435640"/>
            <a:ext cx="87850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: «Было комфортно работать в составе групп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групп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аботали дружно, спорили, но не ссорилис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: «Нам было интересно и полезно работать в групп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4572000" y="1989000"/>
            <a:ext cx="2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5292720" y="1700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3851280" y="198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2987640" y="18860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3419640" y="2849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2556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4572000" y="3219480"/>
            <a:ext cx="2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5580000" y="3219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2"/>
          <p:cNvSpPr/>
          <p:nvPr/>
        </p:nvSpPr>
        <p:spPr>
          <a:xfrm>
            <a:off x="539640" y="18900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 п.47, упр.29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Прямоугольник 1"/>
          <p:cNvSpPr/>
          <p:nvPr/>
        </p:nvSpPr>
        <p:spPr>
          <a:xfrm>
            <a:off x="324000" y="1700280"/>
            <a:ext cx="8820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ерить плавает или нет картофель в воде, и что нужно сделать, чтоб картоф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лав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по выбору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ую силу надо приложить, чтобы удержать в воде камень массой 25 кг? Плотность камня равна 2500 кг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При полном погружении в жидкость на тело объемом 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действует выталкивающая сила, равная 78,4 Н. Какая это жидкость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179280" y="134136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«Способность физики обнаруживать единство в необычном и загадочном мире, окружающем нас, не может нас не вдохновля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Прямоугольник 2"/>
          <p:cNvSpPr/>
          <p:nvPr/>
        </p:nvSpPr>
        <p:spPr>
          <a:xfrm>
            <a:off x="5213160" y="4149720"/>
            <a:ext cx="29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 Деви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2195640" y="1125360"/>
            <a:ext cx="457200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дкости на тело давя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 его все поднимаю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силу создаю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Архимедовой зовут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считать умеем м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нать лишь вес вод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тело вытесня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кон нам объясня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л его великий гре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имя – Архим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3132000" y="1017720"/>
            <a:ext cx="578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Архимедова си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Res" descr="res2B9342A5-C70D-47CC-A3D8-AACB47B44ED6"/>
          <p:cNvPicPr/>
          <p:nvPr/>
        </p:nvPicPr>
        <p:blipFill>
          <a:blip r:embed="rId1"/>
          <a:stretch/>
        </p:blipFill>
        <p:spPr>
          <a:xfrm>
            <a:off x="0" y="3857760"/>
            <a:ext cx="514368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3" name="TextBox 1"/>
          <p:cNvSpPr/>
          <p:nvPr/>
        </p:nvSpPr>
        <p:spPr>
          <a:xfrm>
            <a:off x="611280" y="3096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03.202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250920" y="1071720"/>
          <a:ext cx="8640720" cy="5486400"/>
        </p:xfrm>
        <a:graphic>
          <a:graphicData uri="http://schemas.openxmlformats.org/drawingml/2006/table">
            <a:tbl>
              <a:tblPr/>
              <a:tblGrid>
                <a:gridCol w="2270160"/>
                <a:gridCol w="2338200"/>
                <a:gridCol w="2016360"/>
                <a:gridCol w="201600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вел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а для расч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жидк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т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медоваси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3"/>
          <p:cNvSpPr/>
          <p:nvPr/>
        </p:nvSpPr>
        <p:spPr>
          <a:xfrm>
            <a:off x="875520" y="285840"/>
            <a:ext cx="75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лните пропуски в табли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31" descr="C:\Users\1\Desktop\cc3b97a4050e68a710b6afa5034dc5bb_54f250441945f439ceaa6d378b4a94e4_156586349572_800px.jpg"/>
          <p:cNvPicPr/>
          <p:nvPr/>
        </p:nvPicPr>
        <p:blipFill>
          <a:blip r:embed="rId1"/>
          <a:stretch/>
        </p:blipFill>
        <p:spPr>
          <a:xfrm>
            <a:off x="2714760" y="3143160"/>
            <a:ext cx="1153800" cy="785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C:\Users\1\Desktop\Безымянный.png"/>
          <p:cNvPicPr/>
          <p:nvPr/>
        </p:nvPicPr>
        <p:blipFill>
          <a:blip r:embed="rId2"/>
          <a:stretch/>
        </p:blipFill>
        <p:spPr>
          <a:xfrm>
            <a:off x="5065560" y="3164040"/>
            <a:ext cx="1285920" cy="785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C:\Users\1\Desktop\1.png"/>
          <p:cNvPicPr/>
          <p:nvPr/>
        </p:nvPicPr>
        <p:blipFill>
          <a:blip r:embed="rId3"/>
          <a:stretch/>
        </p:blipFill>
        <p:spPr>
          <a:xfrm>
            <a:off x="7000920" y="3143160"/>
            <a:ext cx="1500120" cy="78588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"/>
          <p:cNvSpPr/>
          <p:nvPr/>
        </p:nvSpPr>
        <p:spPr>
          <a:xfrm>
            <a:off x="5219640" y="422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8" descr="C:\Users\1\Desktop\5.png"/>
          <p:cNvPicPr/>
          <p:nvPr/>
        </p:nvPicPr>
        <p:blipFill>
          <a:blip r:embed="rId4"/>
          <a:stretch/>
        </p:blipFill>
        <p:spPr>
          <a:xfrm>
            <a:off x="2357280" y="4286160"/>
            <a:ext cx="2357640" cy="857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" descr="C:\Users\1\Desktop\6.png"/>
          <p:cNvPicPr/>
          <p:nvPr/>
        </p:nvPicPr>
        <p:blipFill>
          <a:blip r:embed="rId5"/>
          <a:stretch/>
        </p:blipFill>
        <p:spPr>
          <a:xfrm>
            <a:off x="6572160" y="4286160"/>
            <a:ext cx="213840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2"/>
          <p:cNvSpPr/>
          <p:nvPr/>
        </p:nvSpPr>
        <p:spPr>
          <a:xfrm>
            <a:off x="324000" y="1628640"/>
            <a:ext cx="871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урока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формулы для расчета Архимедовой силы и применение ее при решении зада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531720" y="213372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тивно обменивайтесь информацией между соб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вместно делайте вы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мните от вклада каждого участника зависит общий результат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336600" y="204840"/>
            <a:ext cx="85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работы в лаборатор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2273760" y="187200"/>
            <a:ext cx="42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уро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2"/>
          <p:cNvSpPr/>
          <p:nvPr/>
        </p:nvSpPr>
        <p:spPr>
          <a:xfrm>
            <a:off x="3069360" y="164304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3356640" y="235728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4"/>
          <p:cNvSpPr/>
          <p:nvPr/>
        </p:nvSpPr>
        <p:spPr>
          <a:xfrm>
            <a:off x="3010320" y="3071880"/>
            <a:ext cx="29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3791160" y="385776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3229560" y="4643280"/>
            <a:ext cx="27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C:\Users\1\Desktop\84a2dbcc16389164bd4552b40ee09a48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6T11:07:46Z</dcterms:created>
  <dc:creator>Учительская</dc:creator>
  <dc:description/>
  <dc:language>en-US</dc:language>
  <cp:lastModifiedBy>1</cp:lastModifiedBy>
  <dcterms:modified xsi:type="dcterms:W3CDTF">2023-02-27T19:00:11Z</dcterms:modified>
  <cp:revision>152</cp:revision>
  <dc:subject/>
  <dc:title>Презентация PowerPoint</dc:title>
</cp:coreProperties>
</file>